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7DBA3-BB98-489D-BF87-40911FD5BD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7A30F-3EA2-40FB-9F0E-FE1905AA1A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31B33-AA20-4D4A-B064-8430A0EE24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91815-49AB-429C-9FAB-02CF12B815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CD154-6B7F-438F-9FC0-528C45639D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4C05A-7637-48A8-AAF9-100A494327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508E-98B4-4D51-B33A-D59A0C69E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8120" y="60912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F080-3DD4-4F3D-8D96-59C7C6D6C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8120" y="60912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668D-846B-4D48-8622-CA8401D0B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8120" y="60912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DF9C-A997-4373-8610-CB08D4AB0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8120" y="60912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D94D-2CC0-4607-92E4-4682C6C87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8120" y="60912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6392-6CA1-415C-AFAB-9AC24AF48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8120" y="60912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6EBD-80A0-4BEC-B3F0-D1118CD56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8120" y="60912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DB8C-9463-4539-89C2-7EDDEFEF8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8120" y="609120"/>
            <a:ext cx="5410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F92B-FBCB-4E09-A66E-5218F282A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8120" y="60912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70D2-634C-4DFC-9422-B1B7A1D67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8120" y="60912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E861-31E4-4276-9AE5-DF6DD2D8F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8120" y="60912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6FC9-9C4B-4773-9958-605BB3486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8120" y="60912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E8154-4A79-4365-9FD9-7BF88BE866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vladars.net/" TargetMode="External"/><Relationship Id="rId2" Type="http://schemas.openxmlformats.org/officeDocument/2006/relationships/hyperlink" Target="http://www.obnovasrpske.org/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68360" y="1844640"/>
            <a:ext cx="77724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Calibri"/>
                <a:ea typeface="Calibri"/>
              </a:rPr>
              <a:t> </a:t>
            </a:r>
            <a:r>
              <a:rPr b="1" lang="sr-CS" sz="4800" spc="-1" strike="noStrike">
                <a:solidFill>
                  <a:srgbClr val="c00000"/>
                </a:solidFill>
                <a:latin typeface="Calibri"/>
                <a:ea typeface="Calibri"/>
              </a:rPr>
              <a:t> </a:t>
            </a:r>
            <a:r>
              <a:rPr b="1" lang="sr-CS" sz="4800" spc="-1" strike="noStrike">
                <a:solidFill>
                  <a:srgbClr val="c00000"/>
                </a:solidFill>
                <a:latin typeface="Calibri"/>
                <a:ea typeface="Calibri"/>
              </a:rPr>
              <a:t>РЕПУБЛИКА СРПСКА ОПОРАВАК ОД ПОПЛАВ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alibri"/>
                <a:ea typeface="Calibri"/>
              </a:rPr>
              <a:t>Радмила Михић, помоћник министр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alibri"/>
                <a:ea typeface="Calibri"/>
              </a:rPr>
              <a:t>Министарство финансија Р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Calibri"/>
                <a:ea typeface="Calibri"/>
              </a:rPr>
              <a:t>Сарајево, октобар 2014. годин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987280" y="691920"/>
            <a:ext cx="5627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alibri"/>
                <a:ea typeface="Calibri"/>
              </a:rPr>
              <a:t>Јединствени регистар штет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10920" y="1989000"/>
            <a:ext cx="8062920" cy="40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alibri"/>
                <a:ea typeface="Calibri"/>
              </a:rPr>
              <a:t>База података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Calibri"/>
              </a:rPr>
              <a:t>која обухвата податке о појединачним штетама насталим на стамбеним,привредним, енергетским и пољопривредним објектима; опреми, механизацији, усјевима и засадима;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Calibri"/>
              </a:rPr>
              <a:t>сточном фонду; саобраћајној инфраструктури; објектима водоснабдијевања и канализације; објектима водозаштите и хидромелиорационим објектима и објектима јавних институциј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Calibri"/>
              </a:rPr>
              <a:t>Подаци су јавни и објављују се на интернет страници Владе Р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    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Calibri"/>
                <a:ea typeface="Calibri"/>
                <a:hlinkClick r:id="rId1"/>
              </a:rPr>
              <a:t>www.vladars.ne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   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Calibri"/>
              </a:rPr>
              <a:t>и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Calibri"/>
                <a:ea typeface="Calibri"/>
                <a:hlinkClick r:id="rId2"/>
              </a:rPr>
              <a:t>www.Obnovasrpske.org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1" descr=""/>
          <p:cNvPicPr/>
          <p:nvPr/>
        </p:nvPicPr>
        <p:blipFill>
          <a:blip r:embed="rId1"/>
          <a:stretch/>
        </p:blipFill>
        <p:spPr>
          <a:xfrm>
            <a:off x="2468520" y="1341360"/>
            <a:ext cx="8102520" cy="853452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8120" y="60912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Електронске картице „Обнова Српске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755640" y="2276640"/>
            <a:ext cx="7772400" cy="476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Calibri"/>
              </a:rPr>
              <a:t>Максимална вриједност картице 5.000,00 КМ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Calibri"/>
              </a:rPr>
              <a:t>За набавку робе и услуга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sr-CS" sz="2200" spc="-1" strike="noStrike">
                <a:solidFill>
                  <a:srgbClr val="000000"/>
                </a:solidFill>
                <a:latin typeface="Calibri"/>
              </a:rPr>
              <a:t>грађевински материјал, материјал за инсталације, намјештај, технички уређаји у домаћинству,комуналне услуге, обавезе према банкама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Calibri"/>
              </a:rPr>
              <a:t>Важе до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 01.07.2015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Calibri"/>
              </a:rPr>
              <a:t>166  привредних субјеката </a:t>
            </a:r>
            <a:r>
              <a:rPr b="1" lang="sr-CS" sz="2200" spc="-1" strike="noStrike">
                <a:solidFill>
                  <a:srgbClr val="000000"/>
                </a:solidFill>
                <a:latin typeface="Calibri"/>
              </a:rPr>
              <a:t>потписало уговор са Фондом</a:t>
            </a:r>
            <a:r>
              <a:rPr b="1" lang="sr-CS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Calibri"/>
              </a:rPr>
              <a:t>18.7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14</a:t>
            </a:r>
            <a:r>
              <a:rPr b="1" lang="sr-CS" sz="2200" spc="-1" strike="noStrike">
                <a:solidFill>
                  <a:srgbClr val="000000"/>
                </a:solidFill>
                <a:latin typeface="Calibri"/>
              </a:rPr>
              <a:t>  платних картица подијељено закључно са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09</a:t>
            </a:r>
            <a:r>
              <a:rPr b="1" lang="sr-CS" sz="2200" spc="-1" strike="noStrike">
                <a:solidFill>
                  <a:srgbClr val="000000"/>
                </a:solidFill>
                <a:latin typeface="Calibri"/>
              </a:rPr>
              <a:t>.10.2014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Calibri"/>
              </a:rPr>
              <a:t>19.279 регистрованих домаћинстава за додјелу платне картице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43280" y="764640"/>
            <a:ext cx="541008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sr-CS" sz="3600" spc="-1" strike="noStrike">
                <a:solidFill>
                  <a:srgbClr val="000000"/>
                </a:solidFill>
                <a:latin typeface="Calibri"/>
                <a:ea typeface="Calibri"/>
              </a:rPr>
              <a:t>Приједлози пројеката за обнову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395280" y="1844280"/>
            <a:ext cx="85694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Министарства Владе РС доставила су приједлоге пројеката у складу са препорукама из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RNA-PDNA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Процијењена вриједност око 705 мил К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Пољопривре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Пројекти санације штета у пољопривредној и сточарској производњи, увезивања примарне производње и прерађивачке индустрије, набавка противградне заштите и развој прогнозно-извјештајне службе – 52.500.000,00 К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627280" y="62028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sr-CS" sz="3600" spc="-1" strike="noStrike">
                <a:solidFill>
                  <a:srgbClr val="000000"/>
                </a:solidFill>
                <a:latin typeface="Calibri"/>
                <a:ea typeface="Calibri"/>
              </a:rPr>
              <a:t>Приједлози пројеката за обнову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323640" y="2104560"/>
            <a:ext cx="8569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Образовањ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Санација и реконструкција основних и средњих школа и објеката културе- 4.290.472,00 К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Здравств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Набавка санитетских возила за домове здравља угрожене поплавама-700.000,00 К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Јавне услуг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Санација јавних институција</a:t>
            </a:r>
            <a:r>
              <a:rPr b="0" lang="sr-CS" sz="2400" spc="-1" strike="noStrike">
                <a:solidFill>
                  <a:srgbClr val="ff0000"/>
                </a:solidFill>
                <a:latin typeface="Calibri"/>
                <a:ea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и обезбјеђења услова за ефикасно пружање услуга грађанима - 6.481.770,00 К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8120" y="60912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alibri"/>
                <a:ea typeface="Calibri"/>
              </a:rPr>
              <a:t>    </a:t>
            </a:r>
            <a:br>
              <a:rPr sz="3600"/>
            </a:br>
            <a:r>
              <a:rPr b="1" lang="sr-CS" sz="3600" spc="-1" strike="noStrike">
                <a:solidFill>
                  <a:srgbClr val="000000"/>
                </a:solidFill>
                <a:latin typeface="Calibri"/>
                <a:ea typeface="Calibri"/>
              </a:rPr>
              <a:t>Приједлози пројеката за обнову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634680" y="2133360"/>
            <a:ext cx="8496360" cy="50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Домаћинст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Санација стамбених објеката - 472.000,00 К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Енергети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Санација електродистрибутивне мреже - 17.601.420,00 К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Транспопрт и комуникациј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Ремонт пружне дионице Модрича-Шамац, санација јединица поштанске мреже, санација путне инфраструктуре, набавка приоритетне опреме и транспортних средстава - 167.020.000,00 К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8120" y="60912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alibri"/>
                <a:ea typeface="Calibri"/>
              </a:rPr>
              <a:t>    </a:t>
            </a:r>
            <a:br>
              <a:rPr sz="3600"/>
            </a:br>
            <a:r>
              <a:rPr b="1" lang="sr-CS" sz="3600" spc="-1" strike="noStrike">
                <a:solidFill>
                  <a:srgbClr val="000000"/>
                </a:solidFill>
                <a:latin typeface="Calibri"/>
                <a:ea typeface="Calibri"/>
              </a:rPr>
              <a:t>Приједлози пројеката за обнову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84360" y="1915920"/>
            <a:ext cx="777240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Привреда и запошљавањ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Calibri"/>
              </a:rPr>
              <a:t>Обнова и санација производних капацитета, санација штете у туризму, подршке запошљавању у поплављеним подручјима, обука за рад незапослених,запошљавања лица са инвалидитетом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  <a:ea typeface="Calibri"/>
              </a:rPr>
              <a:t>-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Calibri"/>
              </a:rPr>
              <a:t> 455.796.637,00 К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Chart 4" descr=""/>
          <p:cNvPicPr/>
          <p:nvPr/>
        </p:nvPicPr>
        <p:blipFill>
          <a:blip r:embed="rId1"/>
          <a:stretch/>
        </p:blipFill>
        <p:spPr>
          <a:xfrm>
            <a:off x="1042920" y="2637000"/>
            <a:ext cx="5302440" cy="40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8120" y="60912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alibri"/>
                <a:ea typeface="Calibri"/>
              </a:rPr>
              <a:t>       </a:t>
            </a:r>
            <a:r>
              <a:rPr b="1" lang="sr-CS" sz="3600" spc="-1" strike="noStrike">
                <a:solidFill>
                  <a:srgbClr val="000000"/>
                </a:solidFill>
                <a:latin typeface="Calibri"/>
                <a:ea typeface="Calibri"/>
              </a:rPr>
              <a:t>Приоритет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843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Обнова инфраструктуре (домаћинства, школе, путеви..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Помоћ угроженим друштвеним категоријам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Опоравак пољопривред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Опоравак система јавних услуг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Смањење ризика од будућих непогод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Примјена принципа „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Build Back Better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8120" y="60912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198108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900" spc="-1" strike="noStrike">
                <a:solidFill>
                  <a:srgbClr val="ff0000"/>
                </a:solidFill>
                <a:latin typeface="Book Antiqua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sr-Latn-CS" sz="3200" spc="-1" strike="noStrike">
                <a:solidFill>
                  <a:srgbClr val="ff0000"/>
                </a:solidFill>
                <a:latin typeface="Times New Roman"/>
              </a:rPr>
              <a:t>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                    </a:t>
            </a:r>
            <a:r>
              <a:rPr b="0" lang="sr-Latn-CS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sr-CS" sz="3200" spc="-1" strike="noStrike">
                <a:solidFill>
                  <a:srgbClr val="ff0000"/>
                </a:solidFill>
                <a:latin typeface="Times New Roman"/>
              </a:rPr>
              <a:t>Хвала на пажњи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sr-CS" sz="1600" spc="-1" strike="noStrike">
                <a:solidFill>
                  <a:srgbClr val="000000"/>
                </a:solidFill>
                <a:latin typeface="Calibri"/>
                <a:ea typeface="Calibri"/>
              </a:rPr>
              <a:t>Радмила Михић, помоћник министр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Calibri"/>
                <a:ea typeface="Calibri"/>
              </a:rPr>
              <a:t>Министарство финансија Р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.mihic@mf.vladars.net</a:t>
            </a:r>
            <a:br>
              <a:rPr sz="14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0000"/>
                </a:solidFill>
                <a:latin typeface="Times New Roman"/>
              </a:rPr>
              <a:t>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1"/>
          <a:stretch/>
        </p:blipFill>
        <p:spPr>
          <a:xfrm>
            <a:off x="3276720" y="1989000"/>
            <a:ext cx="2886120" cy="17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79280" y="620280"/>
            <a:ext cx="6335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Посљедице поплава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4000" y="1699920"/>
            <a:ext cx="78483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Штете и губици у РС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1.893.830.000 КМ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оплавама захваћено</a:t>
            </a:r>
            <a:r>
              <a:rPr b="0" lang="sr-Latn-BA" sz="2800" spc="-1" strike="noStrike">
                <a:solidFill>
                  <a:srgbClr val="000000"/>
                </a:solidFill>
                <a:latin typeface="Calibri"/>
              </a:rPr>
              <a:t> 40%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територије РС и </a:t>
            </a:r>
            <a:r>
              <a:rPr b="0" lang="sr-Latn-BA" sz="2800" spc="-1" strike="noStrike">
                <a:solidFill>
                  <a:srgbClr val="000000"/>
                </a:solidFill>
                <a:latin typeface="Calibri"/>
              </a:rPr>
              <a:t>58%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купног становништв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19 људи изгубило живот током поплав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55.000 расељених људ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15760" y="549000"/>
            <a:ext cx="6335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Оком камер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4000" y="1699920"/>
            <a:ext cx="7848360" cy="42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2" descr="C:\Users\rmihic\Desktop\6df35_poplave-republika-srpska-banja-luka-tviter-1400337757-498631.jpg"/>
          <p:cNvPicPr/>
          <p:nvPr/>
        </p:nvPicPr>
        <p:blipFill>
          <a:blip r:embed="rId1"/>
          <a:stretch/>
        </p:blipFill>
        <p:spPr>
          <a:xfrm>
            <a:off x="1692360" y="1844640"/>
            <a:ext cx="3254400" cy="1908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http://www.sobijeljina.org/galerija/galerija/gal_38_slika_1618_velika.jpg"/>
          <p:cNvPicPr/>
          <p:nvPr/>
        </p:nvPicPr>
        <p:blipFill>
          <a:blip r:embed="rId2"/>
          <a:stretch/>
        </p:blipFill>
        <p:spPr>
          <a:xfrm>
            <a:off x="4946760" y="1844640"/>
            <a:ext cx="3392280" cy="1908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http://www.sobijeljina.org/galerija/galerija/gal_38_slika_1658_velika.jpg"/>
          <p:cNvPicPr/>
          <p:nvPr/>
        </p:nvPicPr>
        <p:blipFill>
          <a:blip r:embed="rId3"/>
          <a:stretch/>
        </p:blipFill>
        <p:spPr>
          <a:xfrm>
            <a:off x="1692360" y="3753000"/>
            <a:ext cx="3254400" cy="2124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http://vijesti365.com/wp-content/uploads/2014/05/poplave-modrica-dnevne.jpg"/>
          <p:cNvPicPr/>
          <p:nvPr/>
        </p:nvPicPr>
        <p:blipFill>
          <a:blip r:embed="rId4"/>
          <a:stretch/>
        </p:blipFill>
        <p:spPr>
          <a:xfrm>
            <a:off x="4946760" y="3759120"/>
            <a:ext cx="3392280" cy="21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844280" y="549000"/>
            <a:ext cx="6335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Оком камер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4000" y="1699920"/>
            <a:ext cx="7848360" cy="42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6" descr="http://static.mondo.rs/Picture/346220/jpeg/doboj-4.jpg"/>
          <p:cNvPicPr/>
          <p:nvPr/>
        </p:nvPicPr>
        <p:blipFill>
          <a:blip r:embed="rId1"/>
          <a:stretch/>
        </p:blipFill>
        <p:spPr>
          <a:xfrm>
            <a:off x="1619280" y="1884240"/>
            <a:ext cx="3394080" cy="1908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http://images3.kurir-info.rs/slika-900x608/poplave-bosna-doboj-foto-beta-1401108056-504851.jpg"/>
          <p:cNvPicPr/>
          <p:nvPr/>
        </p:nvPicPr>
        <p:blipFill>
          <a:blip r:embed="rId2"/>
          <a:stretch/>
        </p:blipFill>
        <p:spPr>
          <a:xfrm>
            <a:off x="5013360" y="1844640"/>
            <a:ext cx="3213000" cy="19083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" descr="http://www.banjaluka.com/wp-content/uploads/2014/05/Banjaluka_nakon_poplava_2.jpg"/>
          <p:cNvPicPr/>
          <p:nvPr/>
        </p:nvPicPr>
        <p:blipFill>
          <a:blip r:embed="rId3"/>
          <a:stretch/>
        </p:blipFill>
        <p:spPr>
          <a:xfrm>
            <a:off x="1619280" y="3792600"/>
            <a:ext cx="3394080" cy="19065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2" descr="http://www.novosti.rs/upload/images/2014/04/25n/rs%20poplave.jpg"/>
          <p:cNvPicPr/>
          <p:nvPr/>
        </p:nvPicPr>
        <p:blipFill>
          <a:blip r:embed="rId4"/>
          <a:stretch/>
        </p:blipFill>
        <p:spPr>
          <a:xfrm>
            <a:off x="5013360" y="3792600"/>
            <a:ext cx="3213000" cy="19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85680" y="609120"/>
            <a:ext cx="60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Како је РС реаговала да ублажи посљедице поплава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755640" y="2205000"/>
            <a:ext cx="7772400" cy="453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Влада РС и градови/општине почели са пописом штете и учешћем у изради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RN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извјештај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Обезбјеђивање средстава за обнову РС: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PayPal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рачун, преговори са Свјетском банком и ММФ, учествовање на Донаторској конференцији, припрема нових законских и подзаконских ака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Јединствени регистар ште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Успостављање Фонда солидарности за обнову Р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03640" y="40428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Законска регулатив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23640" y="1052640"/>
            <a:ext cx="856908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8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ародна скупштина Републике Српске по хитном поступку усвојила сљедеће законе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Закон о Фонду солидарности за обнову Републике Српск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Закон о посебном доприносу за солидарнос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Закон о накнадама за коришћење природних ресурса у сврху производње електричне енергиј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Закон о измјенама Закона о порезима на употребу, држање и ношење добар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Закон о измјенама и допунама Закона о посебним републичким таксам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Закон о измјенама и допунама Закона о посебним начинима измирења пореског дуг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Calibri"/>
              </a:rPr>
              <a:t>Закон о измјенама и допунама Закона о порезу на непокретност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987640" y="62028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alibri"/>
                <a:ea typeface="Calibri"/>
              </a:rPr>
              <a:t>Законска регулатива - ефек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95280" y="1989000"/>
            <a:ext cx="842472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2000" spc="-1" strike="noStrike">
                <a:solidFill>
                  <a:srgbClr val="000000"/>
                </a:solidFill>
                <a:latin typeface="Calibri"/>
                <a:ea typeface="Calibri"/>
              </a:rPr>
              <a:t>Предвиђена подјела  платних картица од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5, 000 </a:t>
            </a:r>
            <a:r>
              <a:rPr b="0" lang="sr-BA" sz="2000" spc="-1" strike="noStrike">
                <a:solidFill>
                  <a:srgbClr val="000000"/>
                </a:solidFill>
                <a:latin typeface="Calibri"/>
                <a:ea typeface="Calibri"/>
              </a:rPr>
              <a:t>КМ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BA" sz="2000" spc="-1" strike="noStrike">
                <a:solidFill>
                  <a:srgbClr val="000000"/>
                </a:solidFill>
                <a:latin typeface="Calibri"/>
                <a:ea typeface="Calibri"/>
              </a:rPr>
              <a:t>за реконструкцију стамбених објекат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2000" spc="-1" strike="noStrike">
                <a:solidFill>
                  <a:srgbClr val="000000"/>
                </a:solidFill>
                <a:latin typeface="Calibri"/>
                <a:ea typeface="Calibri"/>
              </a:rPr>
              <a:t>Надокнаде за коришћење хидроелектричних постројења су повећане с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0,005 </a:t>
            </a:r>
            <a:r>
              <a:rPr b="0" lang="sr-BA" sz="2000" spc="-1" strike="noStrike">
                <a:solidFill>
                  <a:srgbClr val="000000"/>
                </a:solidFill>
                <a:latin typeface="Calibri"/>
                <a:ea typeface="Calibri"/>
              </a:rPr>
              <a:t>КМ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BA" sz="2000" spc="-1" strike="noStrike">
                <a:solidFill>
                  <a:srgbClr val="000000"/>
                </a:solidFill>
                <a:latin typeface="Calibri"/>
                <a:ea typeface="Calibri"/>
              </a:rPr>
              <a:t>н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0,010 </a:t>
            </a:r>
            <a:r>
              <a:rPr b="0" lang="sr-BA" sz="2000" spc="-1" strike="noStrike">
                <a:solidFill>
                  <a:srgbClr val="000000"/>
                </a:solidFill>
                <a:latin typeface="Calibri"/>
                <a:ea typeface="Calibri"/>
              </a:rPr>
              <a:t>КМ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, </a:t>
            </a:r>
            <a:r>
              <a:rPr b="0" lang="sr-BA" sz="2000" spc="-1" strike="noStrike">
                <a:solidFill>
                  <a:srgbClr val="000000"/>
                </a:solidFill>
                <a:latin typeface="Calibri"/>
                <a:ea typeface="Calibri"/>
              </a:rPr>
              <a:t>као и надокнаде за коришћење необновљивих природних извора са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0,003 </a:t>
            </a:r>
            <a:r>
              <a:rPr b="0" lang="sr-BA" sz="2000" spc="-1" strike="noStrike">
                <a:solidFill>
                  <a:srgbClr val="000000"/>
                </a:solidFill>
                <a:latin typeface="Calibri"/>
                <a:ea typeface="Calibri"/>
              </a:rPr>
              <a:t>КМ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BA" sz="2000" spc="-1" strike="noStrike">
                <a:solidFill>
                  <a:srgbClr val="000000"/>
                </a:solidFill>
                <a:latin typeface="Calibri"/>
                <a:ea typeface="Calibri"/>
              </a:rPr>
              <a:t>н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0,006 </a:t>
            </a:r>
            <a:r>
              <a:rPr b="0" lang="sr-BA" sz="2000" spc="-1" strike="noStrike">
                <a:solidFill>
                  <a:srgbClr val="000000"/>
                </a:solidFill>
                <a:latin typeface="Calibri"/>
                <a:ea typeface="Calibri"/>
              </a:rPr>
              <a:t>К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2000" spc="-1" strike="noStrike">
                <a:solidFill>
                  <a:srgbClr val="000000"/>
                </a:solidFill>
                <a:latin typeface="Calibri"/>
                <a:ea typeface="Calibri"/>
              </a:rPr>
              <a:t>Износ пореза на моторна возила је повећан од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25% </a:t>
            </a:r>
            <a:r>
              <a:rPr b="0" lang="sr-BA" sz="2000" spc="-1" strike="noStrike">
                <a:solidFill>
                  <a:srgbClr val="000000"/>
                </a:solidFill>
                <a:latin typeface="Calibri"/>
                <a:ea typeface="Calibri"/>
              </a:rPr>
              <a:t>д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50%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2000" spc="-1" strike="noStrike">
                <a:solidFill>
                  <a:srgbClr val="000000"/>
                </a:solidFill>
                <a:latin typeface="Calibri"/>
                <a:ea typeface="Calibri"/>
              </a:rPr>
              <a:t>Порез на посједовање оружја и муниције за личну сигурност је повећан за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50% </a:t>
            </a:r>
            <a:r>
              <a:rPr b="0" lang="sr-BA" sz="2000" spc="-1" strike="noStrike">
                <a:solidFill>
                  <a:srgbClr val="000000"/>
                </a:solidFill>
                <a:latin typeface="Calibri"/>
                <a:ea typeface="Calibri"/>
              </a:rPr>
              <a:t>у односу на претходни износ порез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8120" y="60912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alibri"/>
                <a:ea typeface="Calibri"/>
              </a:rPr>
              <a:t>Законска регулатива - ефек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395280" y="2205000"/>
            <a:ext cx="8493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2000" spc="-1" strike="noStrike">
                <a:solidFill>
                  <a:srgbClr val="000000"/>
                </a:solidFill>
                <a:latin typeface="Calibri"/>
                <a:ea typeface="Calibri"/>
              </a:rPr>
              <a:t>Ослобађају се од посебне републичке таксе порески обвезници који су били поплављени и то за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2014.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Calibri"/>
              </a:rPr>
              <a:t>годину (правна лица и предузетници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2000" spc="-1" strike="noStrike">
                <a:solidFill>
                  <a:srgbClr val="000000"/>
                </a:solidFill>
                <a:latin typeface="Calibri"/>
                <a:ea typeface="Calibri"/>
              </a:rPr>
              <a:t>Уведено је репрограмирање за пореске обвезнике који су претрпјели директну материјалну штету током поплава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Calibri"/>
              </a:rPr>
              <a:t> (</a:t>
            </a:r>
            <a:r>
              <a:rPr b="0" lang="sr-BA" sz="2000" spc="-1" strike="noStrike">
                <a:solidFill>
                  <a:srgbClr val="000000"/>
                </a:solidFill>
                <a:latin typeface="Calibri"/>
                <a:ea typeface="Calibri"/>
              </a:rPr>
              <a:t>могућност репрограмирања обавеза доспјелих за плаћање до 30.јуна 2014. уз једногодишњи бескаматни грејс период  у којем се не мора доставити колатерал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BA" sz="2000" spc="-1" strike="noStrike">
                <a:solidFill>
                  <a:srgbClr val="000000"/>
                </a:solidFill>
                <a:latin typeface="Calibri"/>
                <a:ea typeface="Calibri"/>
              </a:rPr>
              <a:t>Дозвољено је јединицама локалне самоуправе да ослободе од опорезивања порезом на непокретности одређени период оне пореске обвезнике који су претрпјели материјалну штету узроковану поплавама у мај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2014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Calibri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43320" y="62028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alibri"/>
                <a:ea typeface="Calibri"/>
              </a:rPr>
              <a:t>Фонд солидарности за обнову Републике Српск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825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ounded Rectangle 9"/>
          <p:cNvSpPr/>
          <p:nvPr/>
        </p:nvSpPr>
        <p:spPr>
          <a:xfrm>
            <a:off x="900000" y="1969920"/>
            <a:ext cx="3610080" cy="4627800"/>
          </a:xfrm>
          <a:custGeom>
            <a:avLst/>
            <a:gdLst>
              <a:gd name="textAreaLeft" fmla="*/ 176040 w 3610080"/>
              <a:gd name="textAreaRight" fmla="*/ 3434040 w 3610080"/>
              <a:gd name="textAreaTop" fmla="*/ 176040 h 4627800"/>
              <a:gd name="textAreaBottom" fmla="*/ 4451760 h 4627800"/>
            </a:gdLst>
            <a:ahLst/>
            <a:rect l="textAreaLeft" t="textAreaTop" r="textAreaRight" b="textAreaBottom"/>
            <a:pathLst>
              <a:path w="21600" h="27689">
                <a:moveTo>
                  <a:pt x="3600" y="0"/>
                </a:moveTo>
                <a:arcTo wR="3600" hR="3600" stAng="16200000" swAng="-5400000"/>
                <a:lnTo>
                  <a:pt x="0" y="24089"/>
                </a:lnTo>
                <a:arcTo wR="3600" hR="3600" stAng="10800000" swAng="-5400000"/>
                <a:lnTo>
                  <a:pt x="18000" y="276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Calibri"/>
                <a:ea typeface="Calibri"/>
              </a:rPr>
              <a:t>Приходи Фонда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Calibri"/>
                <a:ea typeface="Calibri"/>
              </a:rPr>
              <a:t>посебан допринос за солидарнос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Calibri"/>
                <a:ea typeface="Calibri"/>
              </a:rPr>
              <a:t>домаће и иностране донације и помоћ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Calibri"/>
                <a:ea typeface="Calibri"/>
              </a:rPr>
              <a:t>кредитна средства Републике и јединица локалне самоуправ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Calibri"/>
                <a:ea typeface="Calibri"/>
              </a:rPr>
              <a:t>буџетска средства Републике и јединица локалне самоуправ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Calibri"/>
                <a:ea typeface="Calibri"/>
              </a:rPr>
              <a:t>накнада за коришћење природних ресурса у сврху производње ел. енергиј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Calibri"/>
                <a:ea typeface="Calibri"/>
              </a:rPr>
              <a:t>средства остварена продајом имовине стечене кривичним дјело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Calibri"/>
                <a:ea typeface="Calibri"/>
              </a:rPr>
              <a:t>дио накнада за употребу, држање и кориштење добара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ounded Rectangle 10"/>
          <p:cNvSpPr/>
          <p:nvPr/>
        </p:nvSpPr>
        <p:spPr>
          <a:xfrm>
            <a:off x="5219640" y="1969920"/>
            <a:ext cx="3435480" cy="4627800"/>
          </a:xfrm>
          <a:custGeom>
            <a:avLst/>
            <a:gdLst>
              <a:gd name="textAreaLeft" fmla="*/ 167400 w 3435480"/>
              <a:gd name="textAreaRight" fmla="*/ 3268080 w 3435480"/>
              <a:gd name="textAreaTop" fmla="*/ 167400 h 4627800"/>
              <a:gd name="textAreaBottom" fmla="*/ 4460400 h 4627800"/>
            </a:gdLst>
            <a:ahLst/>
            <a:rect l="textAreaLeft" t="textAreaTop" r="textAreaRight" b="textAreaBottom"/>
            <a:pathLst>
              <a:path w="21600" h="29096">
                <a:moveTo>
                  <a:pt x="3600" y="0"/>
                </a:moveTo>
                <a:arcTo wR="3600" hR="3600" stAng="16200000" swAng="-5400000"/>
                <a:lnTo>
                  <a:pt x="0" y="25496"/>
                </a:lnTo>
                <a:arcTo wR="3600" hR="3600" stAng="10800000" swAng="-5400000"/>
                <a:lnTo>
                  <a:pt x="18000" y="290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Calibri"/>
                <a:ea typeface="Calibri"/>
              </a:rPr>
              <a:t>Средства Фонда се користе за санацију штета од поплава на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Calibri"/>
                <a:ea typeface="Calibri"/>
              </a:rPr>
              <a:t>стамбеним објектима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Calibri"/>
                <a:ea typeface="Calibri"/>
              </a:rPr>
              <a:t>привредним објектим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Calibri"/>
                <a:ea typeface="Calibri"/>
              </a:rPr>
              <a:t>енергетским објектим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Calibri"/>
                <a:ea typeface="Calibri"/>
              </a:rPr>
              <a:t>пољопривредним објектима, опреми, механизацији усјевима и засадим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Calibri"/>
                <a:ea typeface="Calibri"/>
              </a:rPr>
              <a:t>сточном фонду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Calibri"/>
                <a:ea typeface="Calibri"/>
              </a:rPr>
              <a:t>саобраћајној инфраструктур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Calibri"/>
                <a:ea typeface="Calibri"/>
              </a:rPr>
              <a:t>објектима водоснабдијевања и канализациј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Calibri"/>
                <a:ea typeface="Calibri"/>
              </a:rPr>
              <a:t>објектима водозаштите и хидромелиорационим објектима 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Calibri"/>
                <a:ea typeface="Calibri"/>
              </a:rPr>
              <a:t>објектима јавних институциј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ight Arrow 11"/>
          <p:cNvSpPr/>
          <p:nvPr/>
        </p:nvSpPr>
        <p:spPr>
          <a:xfrm>
            <a:off x="4568760" y="4057560"/>
            <a:ext cx="579600" cy="403200"/>
          </a:xfrm>
          <a:prstGeom prst="rightArrow">
            <a:avLst>
              <a:gd name="adj1" fmla="val 50000"/>
              <a:gd name="adj2" fmla="val 50166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4T07:13:24Z</dcterms:created>
  <dc:creator>olukic</dc:creator>
  <dc:description/>
  <dc:language>en-US</dc:language>
  <cp:lastModifiedBy>operater</cp:lastModifiedBy>
  <cp:lastPrinted>2014-10-14T13:20:23Z</cp:lastPrinted>
  <dcterms:modified xsi:type="dcterms:W3CDTF">2014-10-14T15:26:54Z</dcterms:modified>
  <cp:revision>271</cp:revision>
  <dc:subject/>
  <dc:title>ИЗГРАДЊА ДРУМСКЕ ОБИЛАЗНИЦЕ ОКО ГРАДА ТРЕБИЊА</dc:title>
</cp:coreProperties>
</file>